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3A738B3-F81C-4A43-9A12-D304BAEA4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23A-D9FE-490E-9BA5-D7834405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16D-E0BC-40CD-A5D0-882CA39A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9D2-A63F-485F-9714-D8CCD922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E7C-9639-45BE-A4A5-62CCF1D8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ED76-FA89-437C-A349-00AA82D9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BE11-53A7-4E48-8BCA-76937BF1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2FDE-A4C9-4B4A-8264-A09A3B5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90D9-873E-42A6-B49F-A545A65F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A6BF-2BB5-4CF5-9B79-BE13A20B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9F39-A2A9-40D6-B401-78AA0F1A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3662-0849-4042-B409-009A211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71A-B8D2-44C1-B555-062B6E4F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C3C8-9C1B-4156-A448-BCCE893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2CB3-DDF4-4CD6-8421-3D08B5A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6B49-9C4E-47B3-A2DE-22D7DACD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A709-4CC3-471E-AA61-9F03B4E9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98EE-9922-47D2-B7E4-215C7571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D81-ED32-492D-905E-1EDA2EF6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CDD-7C05-41F2-ABBF-7F834503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6EC-D55A-4A32-815B-358ED908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D23-0140-4D55-83AB-AE46545C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A69-69ED-4AE0-B051-247A3C0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4F8-913F-426E-A837-65472AB5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FF8-E585-415E-BBF7-113EE0D3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7D13-97C5-40D6-9DDD-FAF661D8D1B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F7B8-15EF-4C57-8823-24307B0DCD1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2267-09E8-4910-8A90-C026319F5FFB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99bd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99bd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ohn Rod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urn and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905120"/>
            <a:ext cx="8399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:  Find three new people to work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How easy / difficult was it to assign an overall expectation to a big idea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re the overall expectations sufficient to get at the big ideas? 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 students’ prior experiences play in the development of their understanding of the big ide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challenges might you as a teacher face when providing students with learning opportunities that focus on developing understanding of the big ide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1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Algebraic reasoning can help you to describe and analyze generalized quadratic relations and change using words and symbol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2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representations of quadratic relations highlight different characteristics and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3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Comparing quadratic relations with other relations (e.g. linear) provides insight into the defining characteristics of a quadratic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4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quadratic relation can sometimes, but not always, reveal other information about that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1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Trigonometric relations can help you to describe and analyze periodic relationships and change using words and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2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3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When comparing trigonometric relations to other relations, the  periodic nature becomes a defining characterist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4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match each question to the big idea that it is most likely to el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23080" y="1332000"/>
            <a:ext cx="3198600" cy="2400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us your name and Boar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thing that you hope to get out of this breakout sess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success that you have had teaching rel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hare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questions were easiest / most difficult to map?  Wh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mmon elements are evident in the questions that help students develop understanding of the big idea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Big Idea and write your own question (for Quadratic or Trig relations) that gets at that Big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member to label the Big Idea on your stic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name on the b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it on y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en 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ak fearles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electronic communication devices turne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and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317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big ideas for quadratic relations and four big ideas for trigonometric relations are posted, one on each side of each corner of the roo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your table, you will find two envel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envelope contains overall expectations from various grade 10, 11 and 12 courses related to quadratic relations OR trigonometric relations.  Select a partner. Choose an envelope and then select one expectation (so each pair will have two expectations) from that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partner, walk around the room and discuss the Big Ideas through the lens of your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expectation, go to the corner that it best connects to. (You and your partner may need to separat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corner, discuss your rationale for matching the overall expectation to that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y change your corner if your discussion made you rethink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you are ready, post your overall expectation under the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How are the expectations for quadratic and trigonometric relations the same for that Big Idea?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5T18:41:00Z</dcterms:modified>
  <cp:revision>123</cp:revision>
  <dc:subject/>
  <dc:title>Math GAINS 2008-09</dc:title>
</cp:coreProperties>
</file>